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062-9101-4265-8DC7-A9F6B8A8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612-5576-467A-90E5-90ECDB59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0AC-2F52-4C1E-B059-1AFE29FE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BA6-F11A-43EA-9EFF-B8A3A92F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0F22-C30A-4182-8116-516E48FB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C481-29E0-4667-9529-6DEAE3F9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F375-D647-4179-B5E3-BCE8AE41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DDA3-1ED3-45B2-991C-8181A519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9B44-0605-4BCF-ACAF-CA97191B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89BF-7CC1-4163-9BF3-6824F3D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E580-8D1D-4C35-B21E-81498BA1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C85-A26F-40A9-845C-09AB1276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4E10-771B-4057-9FDD-939669EF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A6E-40E5-454D-84AE-94E32F31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64EB-A247-4E0F-B80D-9BAC54E6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E039-7FD0-4205-8114-1222DA0B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8DBD-5F29-4F9B-82B4-6CD30647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D14-338D-4C63-BED0-22A40E72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A4A-7165-407D-8A5C-ACC1B1DA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CD5-CE78-4AC6-8561-166F1A85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74D-4F50-4022-A14C-64BC3069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726-E2B6-4024-98DC-A5833D6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F99-8F9F-44D4-AB23-3D5F3CC8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054-2EAD-47C1-B1F6-EE11B69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F269-4ABD-484F-BD72-2024D0D24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9052-1FA2-4451-A33C-2D4F58FD33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ОГЛАСОВАННЫЕ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И НЕСОГЛАСОВАННЫЕ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ОПРЕДЕЛ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Значения несогласованных определе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ринадлежно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лицо Кутузов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Отношение к коллектив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Путиловского зав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роизводителя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скрип коле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ризнак по его носител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темнота лес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Отношение целого к ча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воротник шинел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согласованные определения  связываются с определяемым словом по способу </a:t>
            </a:r>
            <a:r>
              <a:rPr b="0" lang="ru-RU" sz="44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управления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44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примыкания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вид связи, при котором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е слово употребляется в определенной форме в зависимости от лексико-грамматического значения главного сло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имеры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енависть к врагу, читать книг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имык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имык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вид связи, при котором зависимость слова выражается лексически, порядком слов и интонацией, без применения служебных слов или морфологического изменения. Образуется наречиями, инфинитивами и деепричасти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имеры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еть красиво, лежать спокой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ы, на которые нужно ответи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такое определ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вы способы выражения определени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 виды определений можно выдели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 отличаются согласованные определения от несогласованны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Что такое определени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Определ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второстепенный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лен  предложения, котор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ет общее  знач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зна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чает на вопросы какой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й? который? и относится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дельному чле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ложения, выраженн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ом  с предмет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ч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ение  является свободным членом предложения, т.к. оно – предложение, почти не меняет своей смысловой окраски без определ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ение  всегда находится в прямой зависимости от определяемого сло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Определение может быть выражен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лагательным 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лажное крыльцо 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ы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порыв ветр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частием (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стывающий воздух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именным прилагательным 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ша крепость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ислительны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второй мальчи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ым местоимение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 в его глазах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ечие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сапоги всмятк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ПО ХАРАКТЕРУ СИНТАКСИЧЕСКОЙ СВЯЗИ ВСЕ ОПРЕДЕЛЕНИЯ ДЕЛЯТСЯ 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ГЛАСОВАН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ГЛАСОВАН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огласованные определ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гласуются с определяемым членом в форме (падеже, числе и роде в ед. ч.), выражаются прилагательными, причастиями, порядковыми числительными, местоимениями: </a:t>
            </a: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Большие деревья растут возле отцовского домика. В нашем классе нет отстающих уче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Значения согласованных определе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Качество предм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безумная отваг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ризнак предм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сельская библиотек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ринадлежность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полковое знам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ыделительно-усилительные признаки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(каждый челове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орядок предмета при сче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в девятом вагон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Результат действ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наступившая тишин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есогласованные опре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Не согласуются с определяемым членом в фор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Выражаются существительными в косвенных падежах, сравнительной степенью прилагательных, наречиями, инфинитивом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Шумели листья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ерёзы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Ему нравились вечера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доме бабушки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Выбери ткан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 рисунком повеселе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5-08T17:33:31Z</dcterms:modified>
  <cp:revision>60</cp:revision>
  <dc:subject/>
  <dc:title>СОГЛАСОВАННЫЕ И НЕСОГЛАСОВАННЫЕ ОПРЕДЕЛЕНИЯ</dc:title>
</cp:coreProperties>
</file>